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FD0B2-7EFB-45CC-96FF-7314D2A7D0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7A670-E1B8-4A38-860E-7E3B73EAB0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 7:  Revised May 21, 2007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33837-A02E-4C86-A43B-327DC51DAB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 7:  Revised May 21, 2007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6B8F6-209E-4E9F-A75B-0A53A2D616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 7:  Revised May 21, 2007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DFD8C-DDF6-4325-9F98-26C4875C17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 7:  Revised May 21, 2007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7D2D8-0B0C-49E6-82D4-A092A669F0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re examp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 7:  Revised May 21, 2007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95376-7C2D-4184-8E63-9179154F55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 7:  Revised May 21, 2007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CFBB-C1D0-4FD2-B972-D386E33E9F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 7:  Revised May 21, 2007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8E7FE-B7A6-4629-A601-B3D9129D9D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 7:  Revised May 21, 2007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8BAF0-7B5A-41BB-B091-4EBBE916B9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 7:  Revised May 21, 2007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81637-3056-43CC-9324-489F34A9A3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 7:  Revised May 21, 2007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Footer Placeholder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 7:  Revised May 21, 2007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8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68134-C103-4815-B538-F097A3AEC3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7FD16-2694-4BF3-8AC9-5943E02484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 7:  Revised May 21, 2007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A497D-CC9A-43DE-8C02-75FEE67AC6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The Power of SMART Goals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by Jan O’Neill and Anne Conzemius  ISBN: 1-932127-87-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 7:  Revised May 21, 2007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DAA70-7492-423B-8375-89E06AF2AD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 7:  Revised May 21, 2007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118C7-0F03-4366-8AE1-285BF6AB6A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e 7:  Revised May 21, 2007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8817-D61E-4F13-93A8-71B622A3D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E7DB-E2F2-4C11-9E09-296292AA0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9D8B34-C4A5-4617-95C3-81CB3B89F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50A69E-860F-4C7A-A636-7F64D9330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A86520-A0FF-4DAF-8510-23B43658D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90287C-EF81-4665-B9DD-592692CF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872C2D-CE4D-4550-B689-CC0909F8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733A96-A21A-42D9-B2C9-C4823886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6AC0E9-69DE-4CEA-B83A-0B10BD3EB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1F99AA-AF1E-4D96-B0D7-E47737220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9D1434-C09C-4C77-A53F-ABC59C157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36246A-A0CB-419A-A9AE-6289D0C14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07F5-151B-4E8B-8F3E-27B76CEFE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95DA80-12B2-4E84-A1B3-15C72DB69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58E2C8-3A94-464E-B9E0-EFF9C350C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692C20-4030-4C4B-8C06-9B85127EF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4E3684-29F0-46F7-8A38-458E81FBE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FB2BAA-2FF2-410D-8C30-9D7791109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8045CE-4866-49E9-AEEE-18B7D578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E8A894-29D9-4FAD-AB1D-E1029AD0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96BFCC-927B-4270-9154-4456E0FD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D571CD-1C77-4584-A9AC-1F9F9F463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80113A-63C0-4FF1-BAE1-15EAE7E4A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5B57-A5F2-40A4-9A52-E0E632549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E4B649-F821-4E7F-BC92-2F75BB43A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1ED89A-CEA2-45DA-982D-B02BFAD92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763952-0CD2-4B67-852F-161F2DEC1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084870-8976-4199-B02A-35AFAF383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2BB36F-0218-49D3-9070-EB79E7215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586234-411E-473E-9013-F3E4AA14D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535275-B9CF-4D59-A557-01E320A94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A28576-2499-4CD9-93BC-E4EA9F31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F96E26-8AC7-4C8E-95C4-B3E3ECAA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EA0E3C-3C7C-4A40-A42B-DF49E843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9831C-CB06-468C-B128-785727B6C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5375DB-E891-404E-A83C-58C537042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065772-48DB-48D9-9D78-810EF219D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AAE6BF-70F7-4DA7-96E0-0BD8D769A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C6FDB4-A59A-4727-920D-9885A988F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EBCE45-C1D4-4CBA-A217-430184E39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6ED1A1-321E-4D7A-9B01-13ADB9F40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8F2B42-DF97-4765-8680-DF76690E0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ED8085-6B97-46F9-8658-E3F243C2E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201DD0-0BB2-457A-8B3D-E314607F3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A8DA92-2712-4816-A3E2-C9383028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FD9CF-4F62-4A89-ABC7-36E73DB48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6C8F06-21A5-4095-93E9-72455BC5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99E0B8-B9E0-4FF2-A5EF-DA9D0969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054064-F228-43A6-8E2E-DACFF81BA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429377-0664-4845-803E-592612554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D495AA-54DC-46EC-8D71-E3F0642BE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8AE49-B5CE-44A1-801C-6893A5962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F26F0-18B8-4A5D-8BBC-6661D957E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DAFEC-1F55-4A67-81A3-9E2E7D616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60812-1CC6-4D3E-AF32-272C5E7D9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319B3-2D41-4028-844C-979E128E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CF60-149C-412E-9E80-2654F890D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28C68-ABDF-40D8-A89C-F3FFFE3E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B6F85-C6FF-4270-9FAA-31C679F0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B316B-6BF9-430D-99B6-DD62BE6BD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4FEA2-5D19-40B8-9E75-E411A45CE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AC663-74EF-4423-BDFC-1FF6D542E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910F0-76BE-46C2-A365-2B0956927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47C09-99C7-4CA4-AC99-4F047AB16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EDEEF-2698-4E1F-8FCD-A421B90A9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08A06-7675-4817-9540-9936D3C47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D7E15-0571-4C4A-8EDC-38AD0B753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207B-7684-4063-875F-FC72C54EE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5D430-CDBD-4A89-BB46-75F159DA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EF6FC-6E70-4EFE-B1BB-C8B72E47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3B9DF-D750-4453-86F1-F5BB0F62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126AB-CADE-45A2-A78A-491D5EEA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92FC2-64E7-4EFC-BB7E-7C7AE9168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7BA65-D78B-4A5B-A165-A16D6C21C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2132B-777A-4E7C-A1FF-A7494253A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E306E-2EB1-441E-BAE7-A790611E0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FD859-D505-44AF-AD57-762FDC39B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98720-9177-4ABC-A086-A0D8DA93D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D1AD-8B38-46EB-8421-5692492A8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2DBED-5061-4B52-BCBA-580228548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5BD2C-4AA8-4B24-BBAF-504043515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BF3DE-1147-4CAE-A70A-7B1CFE356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5FE55-5BCE-4427-BD7E-EC17751F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B3439-B352-4BE5-810E-BA42E9EE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10324-7095-4053-BDEE-A0480A68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2AE5D-D045-48B8-BFE0-EE7BE671C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49076-874F-427F-969E-E3618FF7B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1C227-2778-46D5-A8D6-01BDFE4A6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9C0FE-DFC9-4316-BBD0-9FCC89D17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3F4E-2F5D-4C09-BEE2-6173AF5A4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A75E5-448B-48C5-9080-D4FDB7364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6F793-B179-45DD-8A79-1EE262818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B4C03-6C6E-4840-95E1-AB549419E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B2240-511A-4F98-8B05-1B17B8A97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F05F9-863D-43F7-9BC8-261D65D4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260D5-0AC8-4A7E-83BF-F08DEB92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EE5F4-6D16-4784-B950-BF667FFC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88A0E-6828-4EC6-8F67-5F8DE51E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71CE9-3EC9-4B2F-A978-DA859199C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A879B-C206-4D46-BE8D-89BB735D4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189C-5581-41C9-981A-E5FE831FE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01E57-8867-4F66-9070-045005CBF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DBF165-73DD-4E7F-8F98-AD079A2C3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50AFE-58C0-417A-8FFB-EDF6448CD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5F0C81-9613-435D-8816-452EEF76B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C8276-A97F-462E-BDA1-BB91B3045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77608B-C848-4715-8D8C-E43139C92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E2F76-7665-48E2-803D-01293C713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7A761-EDF0-4D65-B192-6097F72D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890D11-FB37-4C3E-900F-753D54DA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8DF5D-927D-4DFE-BE42-FF9F5C4C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0C1F-A805-4046-86A8-9AE34260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9C61ED-CB31-43AA-A08D-65037C738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11ACC-2497-4E2B-94B9-319346D88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F6708-D33B-4A4A-9954-8ED5AF418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CEF30-8D2F-468A-A803-84B07D8BC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32E9B8-E269-403A-B421-D8A46030D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374C9-B3E0-4E11-A208-8DECCAB3B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9359A1-1CC5-4BFE-91A7-74DC30739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394E9-8CD3-4476-89F2-BF7507953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BE390F-B777-4FA7-A340-9EADA0793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1D9D6-84E0-4DBC-A738-A876F209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C2BA-6F79-41A1-8676-3E52274D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1AACBC-EC5F-4AD3-AA0C-D4F22AD1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CE97D-91BF-4966-A291-1020D06D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14172-90BF-421E-9FE9-8FC45FB1C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86270-E137-4312-8291-FAE64F094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E0FD8-2E36-456F-852B-078FC832B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8AD10C-3F73-4069-B1FC-27EFBC99A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DA87F8-83F2-4AEA-95D6-B54BB253E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90FE26-1BD0-4AA6-9B23-940A344B5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0ECD66-6686-4D9C-9218-27D56966A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5F77C-3474-42C2-AA25-4863E13BE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CF2E-DAB1-43CB-9852-EEB77658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90679-B4FE-414E-9525-778EA4B98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444A08-449E-423D-AC1F-24EA05A9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4D326F-249B-49E5-9626-3D835F3F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C7E346-81EC-45A9-AF03-82336F55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BBE5B5-287C-4437-8B68-3888E58A0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0F4FA5-D9F8-4085-9E32-0044AE205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6370A7-3DBF-4E75-9138-5FFC1AE30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910A11-6754-4745-A0FB-9E1D7B170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909A59-EE14-43E5-A7C9-BCE334E85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1702BF-D919-44A8-908E-7BAA3A0E9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362AD-A5C2-4380-89FD-AB0A8DB2EA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11C8A-549F-469B-A1EE-951B170E76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CFB4C-2D48-4499-9ECE-233B83AE84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74C8F-38E7-4C64-8585-A0DA54C228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900D9-8D25-44D7-A914-5FDB880DE5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9A5EF-50A8-4618-9A26-3E95F6D89A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8DF23-AE10-4E31-93B2-B4446C20F8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70B87-95A1-4B69-9F1C-788DDA201B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499FA-C824-4987-BF73-9EA17D3DFA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D91CE-EC3F-46D8-8270-A7A32C1156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F21D2-FCC2-4970-9FE0-6AB8C3B9A48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6BD4D-3F41-412B-A5A8-C2C68B70A0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614" name="Rectangle 1031"/>
          <p:cNvSpPr/>
          <p:nvPr/>
        </p:nvSpPr>
        <p:spPr>
          <a:xfrm>
            <a:off x="6553080" y="60958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1B157-F99A-4E85-93C2-027C9CCB2EAE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6349"/>
                </a:solidFill>
                <a:latin typeface="Georgia"/>
              </a:rPr>
              <a:t>Developing Individual Professional Development Plans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M </a:t>
            </a:r>
            <a:r>
              <a:rPr b="0" lang="en-US" sz="3300" spc="-1" strike="noStrike">
                <a:solidFill>
                  <a:srgbClr val="ff0000"/>
                </a:solidFill>
                <a:latin typeface="Georgia"/>
              </a:rPr>
              <a:t>A</a:t>
            </a: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 RT GOAL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Slide Number Placeholder 5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F1DD1-7AA0-4EA3-9E79-169108B57DE9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– Attainabl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Goals that motivate us to strive higher are those that are almost but not quite within our reach, that we need to stretch to achiev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790640" y="2869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MA</a:t>
            </a:r>
            <a:r>
              <a:rPr b="0" i="1" lang="en-US" sz="6800" spc="-1" strike="noStrike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en-US" sz="3300" spc="-1" strike="noStrike">
                <a:solidFill>
                  <a:srgbClr val="694f07"/>
                </a:solidFill>
                <a:latin typeface="Georgia"/>
              </a:rPr>
              <a:t> </a:t>
            </a: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 GOAL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5" name="Slide Number Placeholder 5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7CE18-1FB1-41DA-8DD9-736B7DDEE2BA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1142640" y="1981080"/>
            <a:ext cx="5791320" cy="11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en-US" sz="13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Georgia"/>
              </a:rPr>
              <a:t>– Results-Based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5000"/>
              </a:lnSpc>
              <a:spcBef>
                <a:spcPts val="2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Georgia"/>
              </a:rPr>
              <a:t>Results-based goals are motivating.  The key question remains: 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5000"/>
              </a:lnSpc>
              <a:spcBef>
                <a:spcPts val="224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46b86"/>
                </a:solidFill>
                <a:latin typeface="Georgia"/>
              </a:rPr>
              <a:t>“</a:t>
            </a:r>
            <a:r>
              <a:rPr b="0" lang="en-US" sz="900" spc="-1" strike="noStrike">
                <a:solidFill>
                  <a:srgbClr val="646b86"/>
                </a:solidFill>
                <a:latin typeface="Georgia"/>
              </a:rPr>
              <a:t>So what?”  </a:t>
            </a:r>
            <a:endParaRPr b="0" lang="en-US" sz="9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5000"/>
              </a:lnSpc>
              <a:spcBef>
                <a:spcPts val="224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46b86"/>
                </a:solidFill>
                <a:latin typeface="Georgia"/>
              </a:rPr>
              <a:t>What improved?  </a:t>
            </a:r>
            <a:endParaRPr b="0" lang="en-US" sz="9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85000"/>
              </a:lnSpc>
              <a:spcBef>
                <a:spcPts val="2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Georgia"/>
              </a:rPr>
              <a:t>When we do not achieve the results we want, we can then go back to the drawing board and ask why.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574280" y="291600"/>
            <a:ext cx="6350040" cy="11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MAR</a:t>
            </a:r>
            <a:r>
              <a:rPr b="0" i="1" lang="en-US" sz="6800" spc="-1" strike="noStrike">
                <a:solidFill>
                  <a:srgbClr val="ff0000"/>
                </a:solidFill>
                <a:latin typeface="Comic Sans MS"/>
              </a:rPr>
              <a:t>T</a:t>
            </a:r>
            <a:r>
              <a:rPr b="0" lang="en-US" sz="33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 GOAL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8" name="Slide Number Placeholder 5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F72F4-E3ED-4AD2-B180-9C4B77E25180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1142640" y="1981080"/>
            <a:ext cx="6095880" cy="11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Comic Sans MS"/>
              </a:rPr>
              <a:t>T</a:t>
            </a:r>
            <a:r>
              <a:rPr b="0" lang="en-US" sz="1500" spc="-1" strike="noStrike">
                <a:solidFill>
                  <a:srgbClr val="694f07"/>
                </a:solidFill>
                <a:latin typeface="Georgi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– Time Bound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Goals need to have a specific time frame.  This builds internal accountability and commitment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11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If a goal is not met within the time frame, then an opportunity is created to learn why the goal was not reached and to make adjustments.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625400" y="279360"/>
            <a:ext cx="655308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Georgia"/>
              </a:rPr>
              <a:t>SMART</a:t>
            </a: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 Goal Exampl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1" name="Slide Number Placeholder 5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A9F0-0E0E-4587-A12B-E0DA75301F45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456840" y="18284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r 8 weeks, exercise 3 times a week sustaining a target heart rate for 30 minute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24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 one year, MasterCard bill will have no carry-over balance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24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y May 1, 95% of the students in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grade, will have mastered multiplication tables with 90% accuracy on a 2 min. time test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485720" y="355320"/>
            <a:ext cx="693396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Leadership Growth Plan Examples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4" name="Slide Number Placeholder 5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BE729-A9D4-47C9-A212-150B5F59415D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24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y September 1, 2010, the administrator will train his/her staff to use data to make decisions to adjust/inform instruction and professional development .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24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y March 30, 2010, the administrator will provide staff with observational data, based on “walk-throughs” at least weekly.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24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teps in the Proces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7" name="Slide Number Placeholder 5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6C034-57C8-4002-B192-904414FC510A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3. Plann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Thinking points for this part of the proces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What are some of the intermediate steps to obtaining this goal?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What resources and supports are needed to help this administrator?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What formative checks will be done to ensure the goal will be met?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Others?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676520" y="27468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899"/>
                </a:solidFill>
                <a:latin typeface="Georgia"/>
              </a:rPr>
              <a:t>Best Practices in Developing Plan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Slide Number Placeholder 5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444AE-13E1-46C2-922C-92278B115B31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eveloped collaboratively with the administrator and evaluator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ased on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Needs of the administrator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The Iowa Standards for School Leaders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The student achievement goals/action plan of the attendance center and the school district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teps in the proces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Slide Number Placeholder 5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7E198-0A15-46F7-BD08-78574D8BB793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. Collaboratively determine the existing need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Thinking points for this process: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n light of the building and district achievement goals, what skills does the administrator believe he/she needs to develop further?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What data sources and points will be used to determine needs?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What needs to be in place to support the administrator?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Others?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teps in the Proces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Slide Number Placeholder 5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F10E6-04ED-40FC-981F-3C01A413714B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. Set goal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Thinking points for this process: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What elements are important in goal setting?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What data sources and points will be used to measure goals?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What needs to be in place to support the administrator?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Others?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/>
          </p:nvPr>
        </p:nvSpPr>
        <p:spPr>
          <a:xfrm>
            <a:off x="620280" y="1915920"/>
            <a:ext cx="811692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646b86"/>
                </a:solidFill>
                <a:latin typeface="Georgia"/>
              </a:rPr>
              <a:t>WHAT GETS MEASURED GETS DONE.</a:t>
            </a:r>
            <a:br>
              <a:rPr sz="3700"/>
            </a:br>
            <a:r>
              <a:rPr b="1" lang="en-US" sz="13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1" lang="en-US" sz="13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1" lang="en-US" sz="13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1" lang="en-US" sz="13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1" lang="en-US" sz="2600" spc="-1" strike="noStrike">
                <a:solidFill>
                  <a:srgbClr val="646b86"/>
                </a:solidFill>
                <a:latin typeface="Georgia"/>
              </a:rPr>
              <a:t>TOM PETER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Footer Placeholder 3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Iowa Evaluator Approval Training Program:  Evaluation of Administrators © 2007  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7" name="Slide Number Placeholder 4"/>
          <p:cNvSpPr/>
          <p:nvPr/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F1EB1-BD38-4F81-97C2-E05568508378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title"/>
          </p:nvPr>
        </p:nvSpPr>
        <p:spPr>
          <a:xfrm>
            <a:off x="658800" y="392400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b86"/>
                </a:solidFill>
                <a:latin typeface="Georgia"/>
              </a:rPr>
              <a:t>"</a:t>
            </a:r>
            <a:r>
              <a:rPr b="0" i="1" lang="en-US" sz="2500" spc="-1" strike="noStrike">
                <a:solidFill>
                  <a:srgbClr val="646b86"/>
                </a:solidFill>
                <a:latin typeface="Georgia"/>
              </a:rPr>
              <a:t>Not everything that counts can be counted and not everything that can be counted counts."</a:t>
            </a:r>
            <a:r>
              <a:rPr b="0" lang="en-US" sz="2500" spc="-1" strike="noStrike">
                <a:solidFill>
                  <a:srgbClr val="646b86"/>
                </a:solidFill>
                <a:latin typeface="Georgia"/>
              </a:rPr>
              <a:t>   </a:t>
            </a:r>
            <a:r>
              <a:rPr b="0" lang="en-US" sz="1600" spc="-1" strike="noStrike">
                <a:solidFill>
                  <a:srgbClr val="646b86"/>
                </a:solidFill>
                <a:latin typeface="Georgia"/>
              </a:rPr>
              <a:t>Einstein</a:t>
            </a:r>
            <a:r>
              <a:rPr b="0" lang="en-US" sz="2500" spc="-1" strike="noStrike">
                <a:solidFill>
                  <a:srgbClr val="646b86"/>
                </a:solidFill>
                <a:latin typeface="Georgia"/>
              </a:rPr>
              <a:t>  </a:t>
            </a:r>
            <a:br>
              <a:rPr sz="3800"/>
            </a:br>
            <a:endParaRPr b="0" lang="en-US" sz="25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Goal Sett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Slide Number Placeholder 5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D07D6-B056-4906-B5F0-CC4C4EB7E87D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ffective goals are key to planning the individual growth plan of administrator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oals should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Focus on improvement in Iowa Standards for School Leaders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Provide information on data collection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Promote personal responsibility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Other?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re are many models of goal setting.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           </a:t>
            </a: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MART Goal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0653A-5A5A-428A-8F54-C548B9828F52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457200" y="17521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51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694f07"/>
                </a:solidFill>
                <a:latin typeface="Comic Sans MS"/>
              </a:rPr>
              <a:t>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– Strategic and specific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151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694f07"/>
                </a:solidFill>
                <a:latin typeface="Comic Sans MS"/>
              </a:rPr>
              <a:t>M</a:t>
            </a:r>
            <a:r>
              <a:rPr b="0" lang="en-US" sz="4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- Measurabl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151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694f07"/>
                </a:solidFill>
                <a:latin typeface="Comic Sans MS"/>
              </a:rPr>
              <a:t>A</a:t>
            </a:r>
            <a:r>
              <a:rPr b="0" lang="en-US" sz="2700" spc="-1" strike="noStrike">
                <a:solidFill>
                  <a:srgbClr val="694f07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– Attainabl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151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694f07"/>
                </a:solidFill>
                <a:latin typeface="Comic Sans MS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– Results-base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151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694f07"/>
                </a:solidFill>
                <a:latin typeface="Comic Sans MS"/>
              </a:rPr>
              <a:t>T</a:t>
            </a:r>
            <a:r>
              <a:rPr b="0" lang="en-US" sz="4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– Time boun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663560" y="21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8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n-US" sz="33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MART GOAL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Slide Number Placeholder 5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DEECB-6633-44CE-A2FC-9629901EC66F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1142640" y="1981080"/>
            <a:ext cx="6095880" cy="11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7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n-US" sz="11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Georgia"/>
              </a:rPr>
              <a:t>– Strategic and Specific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Georgia"/>
              </a:rPr>
              <a:t>Why specific?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5000"/>
              </a:lnSpc>
              <a:spcBef>
                <a:spcPts val="2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46b86"/>
                </a:solidFill>
                <a:latin typeface="Georgia"/>
              </a:rPr>
              <a:t>Specificity provides the concrete, tangible evidence of improvement.</a:t>
            </a:r>
            <a:endParaRPr b="0" lang="en-US" sz="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5000"/>
              </a:lnSpc>
              <a:spcBef>
                <a:spcPts val="2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46b86"/>
                </a:solidFill>
                <a:latin typeface="Georgia"/>
              </a:rPr>
              <a:t>By targeting knowledge and skills that achieve the Iowa Standards for School Leaders, administrators become very focused in their approaches. </a:t>
            </a:r>
            <a:endParaRPr b="0" lang="en-US" sz="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5000"/>
              </a:lnSpc>
              <a:spcBef>
                <a:spcPts val="2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46b86"/>
                </a:solidFill>
                <a:latin typeface="Georgia"/>
              </a:rPr>
              <a:t>By targeting on specific goals, the administrator has clearer communication on what needs to change to increase results.</a:t>
            </a:r>
            <a:endParaRPr b="0" lang="en-US" sz="8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473120" y="27900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S</a:t>
            </a:r>
            <a:r>
              <a:rPr b="0" i="1" lang="en-US" sz="61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 ART GOALS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9" name="Slide Number Placeholder 5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95F8D-E152-4ADE-875E-4FF774DDA700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1142640" y="1981080"/>
            <a:ext cx="6248520" cy="11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1300" spc="-1" strike="noStrike">
                <a:solidFill>
                  <a:srgbClr val="694f07"/>
                </a:solidFill>
                <a:latin typeface="Georgia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Georgia"/>
              </a:rPr>
              <a:t>– Measurable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5000"/>
              </a:lnSpc>
              <a:spcBef>
                <a:spcPts val="3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eorgia"/>
              </a:rPr>
              <a:t>Being able to measure a goal is critical as we tend to focus our efforts on what gets measured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5000"/>
              </a:lnSpc>
              <a:spcBef>
                <a:spcPts val="3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eorgia"/>
              </a:rPr>
              <a:t>By using multiple measures, a more complete picture of results can be reliably reached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3T19:13:16Z</dcterms:created>
  <dc:creator>Loess Hills</dc:creator>
  <dc:description/>
  <dc:language>en-US</dc:language>
  <cp:lastModifiedBy>Loess Hills</cp:lastModifiedBy>
  <dcterms:modified xsi:type="dcterms:W3CDTF">2010-03-03T19:14:52Z</dcterms:modified>
  <cp:revision>1</cp:revision>
  <dc:subject/>
  <dc:title>Developing Individual Professional Development Plans</dc:title>
</cp:coreProperties>
</file>